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5B0-CAE2-4D18-A969-0ADA7119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846-6316-4A10-B398-B6E5C667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37A-67AB-4875-82F8-9CE99BBA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B62-2F40-4626-843E-02750255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2CAC-FEC6-4F7A-BB53-D93004AF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3961-7EC5-42D7-85DA-B4BAB5F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D6CF-4F6D-43D9-AFB7-04066EB8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E3F3-CCD8-4782-BD0A-EC1DC08E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FDBB-6F71-421B-9054-0FF32734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F1C8-DD3A-4A8D-A549-2B1A59CD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674A-964A-49BE-AEF5-25855051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440-87CF-4DBC-9B58-53AC0657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AD1E-0446-4E13-A7C8-3F29ED25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4665-7C64-4FAC-9233-67C5AA3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4266-930B-495F-B65C-D5E287D9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68C7-1BF7-4E04-A460-323B2FF2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6988-A94B-4AFF-BC19-E4F1606F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2F6-52FF-427C-8620-6A0DE566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028-BA30-4276-BC5D-3219B1A8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F34-554F-40A4-9D9B-79E29F7F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413-9E97-4DA0-86A6-3FEE4F80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26D-7F49-418B-9078-7AAD5F8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808-912C-44F6-A025-632C7F7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B68-0560-480B-8321-6469FB53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BF0-E443-4C04-9393-FACAD2F5A4E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63DB-1C99-4AD0-9461-AA82353408D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Eastern Front in World War O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learn about Russia’s involvement in World War 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relate this to pre-existing tensions in Russ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8672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Produced by By Mr. Osborne with some small adaptations by Mr. Wrigh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impact of WW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cc"/>
                </a:solidFill>
                <a:uFillTx/>
                <a:latin typeface="Times New Roman"/>
              </a:rPr>
              <a:t>Military Defeats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Russian army was big but poorly equipped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Lost two major battles in 1914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Caused loss of civilian and military moral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Tsar now held responsible for the defeats as he had taken charge of the army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Battles of Tannenburg and Masurian Lak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learn about Russian defeats in World War 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understand how these effected the opinion of the Russian popul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arly Succe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Army, led by General Rennenkampf, and the Second Army, led by General Samsonov were told to invade East Prussia (part of German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General Samsonov forced the Germans to retre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General Rennenkampf defeated the Germans at the Battle of Gumbinn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Change In German Tactic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Germans replaced their commander, Prittwitz, with Generals Ludendorff and Hindenbur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decided that attack was the best form of defence, and mounted an offens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Battle of Tannenbur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By August 22</a:t>
            </a:r>
            <a:r>
              <a:rPr b="0" lang="en-GB" sz="2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the Germans had stabilised their position and by the 29</a:t>
            </a:r>
            <a:r>
              <a:rPr b="0" lang="en-GB" sz="24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they had surrounded Samsonov’s arm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Germans intercepted a message revealing that Rennenkampf’s army would not be marching to assist Samsonov, and moved in to at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message also contained Samsonov’s plan of attack, so the Germans could prepare for t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Battle of Tannenburg (cont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Russians found themselves surrounded, and unable to retreat back to Russia without having to f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amsonov ordered a breakout, but this was very cost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150,000 men in the Second Army, only 10,000 managed to esca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owever, this helped their allies on the Western Front because the Germans had to move their troo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Battle of Masurian Lak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ussians had planned a pincer movement to encircle the Germa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ue to Samsonov’s defeat at Tannenburg, the Rennenkampf’s army was in a much weaker pos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other defeat like Tannenburg would secure the German border, and allow the Germans to send troops back to the Western Fro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The Battle of Masurian Lakes (cont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erman army attacked on September 7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outnumbering the Russians 3 to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ussians decided to withdraw, but left two divisions behind to slow the German advance and allow the Russians time to esca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nsuing battle cost the Russians 125,000 men and 150 artillery gu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Why did these battles help to cause the Russian Revolution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as the Russian Commander-in-Chief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happened to the patriotic feeling at the start of the war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it make the Russian military fee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24080" y="1295280"/>
            <a:ext cx="2819520" cy="236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of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3520"/>
            <a:ext cx="2971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riticism of the Ts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or military comman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or political lea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the Tsarina in charge of the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fused to accept advice from the Du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838080"/>
            <a:ext cx="2590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cc"/>
                </a:solidFill>
                <a:uFillTx/>
                <a:latin typeface="Times New Roman"/>
              </a:rPr>
              <a:t>Criticism of the Tsar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nexperienced and incompetent rul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Under the influence of Rasput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Unpopular because she was Germ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935520"/>
            <a:ext cx="2819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Role of Rasput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aimed to be a healer. Disliked by many yet held influence over both the Tsar and Tsar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sassination in Serb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nk back to when you studied the causes of World War One.  How did the assassination of Arch Duke Franz Ferdinand II increase tension between Russia and Austria-Hunga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conomic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 15 million men joined the ar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enough workers in factories and fa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used shortages of food and materi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ilway system very po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uld not supply the tro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uld not supply the tow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prices r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380880"/>
            <a:ext cx="17524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80880"/>
            <a:ext cx="182880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cial discont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od shortages and price rises caused widespread discon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war had seen the population move from the countryside to the c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ities soon became overcrowded and people lived in terrible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380880"/>
            <a:ext cx="205740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80880"/>
            <a:ext cx="175248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vents of the Revolu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2 20,000 steelworkers on strik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3 Women take to the streets to demonst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5 Now over half of Petrograd is on strik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6 Tsar orders troops to fire on crowds- 40 ki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vents of the Revolu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6 Tsar closes the Du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7 Soldiers mutiny and establish the Petrograd Soviet with workers and sail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 28 Tsar returns to Petrogr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ch 1 Tsar loses support of ar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ch 2 Tsar abdic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ch 3 Grand Duke Michael refuses thro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ults of February revolu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200400"/>
            <a:ext cx="3124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The Provisional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 A 12 member government led by Kerens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 Planned to rule until elections could be h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3048120"/>
            <a:ext cx="26672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Petrograd Sovi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council of 2,500 deputie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termined to share power with the Provisional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819520"/>
            <a:ext cx="2362320" cy="32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ual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ink back to when you studied the start of World War One.  What was the Schlieffen Plan?  What effect did this have on Russi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Germany had drawn up plans for war in Euro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Germans planned to attack France quickly and defeat the French before they could mobilise their troo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is would prevent the Germans having to fight a war on two fro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lan failed because British and French troops were able to slow the German advance, and force them into fighting trench warf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ee the Schlieffen plan animation click here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ussian Mobilis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nk back to when you studied the causes of World War One.  What advantage did Russia have over all the other armies in Europ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ussian Mobilis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ussia had an enormous military by comparison to the other European nations (it had around 1.3 million soldiers, compared to Germany’s 900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owever, the Schlieffen plan only gave Russia about 6 weeks to fully mobilise their army to repel a German att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ny Russian soldiers were sent to fight poorly trained and equipp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Tsar’s Popular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at effect do you think the start of World War One had on Tsar Nicholas II’s popularit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Tsar’s Popular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t the beginning of World War One, despite the problems in Russia, Tsar Nicholas II’s popularity soa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threat of war increased Russians sense of patriot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sar Nicholas II was seen as the leader of the n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onsequently, Tsar Nicholas II made himself Commander-in-Chief of the Russian arm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February Revolution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17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fall of the Ts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5867280"/>
            <a:ext cx="480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y Mr Osborne</a:t>
            </a:r>
            <a:br>
              <a:rPr sz="2000"/>
            </a:b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choolHistory.co.u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10-24T02:25:50Z</dcterms:modified>
  <cp:revision>8</cp:revision>
  <dc:subject/>
  <dc:title> The February Revolution </dc:title>
</cp:coreProperties>
</file>